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9CD84-339E-4615-9D51-029E07508B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1BF3B-3C3A-4FC4-B9AD-9A0AECCE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D04DB-9403-4C8C-96C1-D20C60F5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FABEA-0067-4832-BDD9-F6219099D1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15233-A0BD-46D7-B7C7-0CC0E510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0631D-86D0-420C-9BB9-3DE4638D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41575-06A9-4D19-AB42-E6A114B8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EDD21-1FF4-4649-B289-F3382AE4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90E49-ED69-49C5-A87D-2C8D2B96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99DC8-62CD-4950-9A09-52BA4653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7CAC-3E43-49F7-8A10-F2869DA2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1C79C-B814-481C-9668-86EE8266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3059-9798-4104-A023-A0D720FD7A90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06028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Hawk M81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Urban Active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S25/M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3502080"/>
            <a:ext cx="83185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ürgen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an Strecker / Christopher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Antje H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Markus A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1640" y="5305320"/>
            <a:ext cx="4572000" cy="122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ürgen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13th Jun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497DC-CBC7-437C-8E06-2F73357DFD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00720" y="836640"/>
            <a:ext cx="4467240" cy="22996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irect R&amp;D  3’23€ (current) vs. 2’97€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(R&amp;D cost deviation of 9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K deviation  2% (1,23€) (because of volume and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C decreas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25/M2 19.06.06 (current) vs.12.06.06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 11.08.06 vs. DS 11.08.06 (M1 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3213000"/>
            <a:ext cx="4467240" cy="21754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inor risk seen on production capacity vs. demand (in connection with Philippe overall capacity 210k/month;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wk orders: Oct 110k/Nov. 114k; Philippe: Oct. 80k/Nov. 75k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/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5445000"/>
            <a:ext cx="4467240" cy="8139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OM            75,4€ (current, incl. 2% variant adder)   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vs. 72,6€ (targ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Hawk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S25/M2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5704" t="18238" r="60627" b="34527"/>
          <a:stretch/>
        </p:blipFill>
        <p:spPr>
          <a:xfrm>
            <a:off x="250920" y="1125360"/>
            <a:ext cx="4105080" cy="43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0D37E-D94C-46E8-A5F6-DB073989DC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356000" y="765000"/>
            <a:ext cx="4464000" cy="248940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0,5 dB decrease on edges in PCS b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ritical timeline; partial de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ill poor cosmetic quality of TPE mater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lue/white variant samples very late due to late design fixing and delay in material availa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Quality Gate Rating Hawk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S25/M2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3384720"/>
            <a:ext cx="4467240" cy="24987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 9% (5,4%SW+3,6%HW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ritical: time schedule for S3 because less than 5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f B2 Test run will be finished until start of Pilot (07.07.06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am declared M2/S25 on 19.06.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5704" t="18238" r="60627" b="34512"/>
          <a:stretch/>
        </p:blipFill>
        <p:spPr>
          <a:xfrm>
            <a:off x="250920" y="1197000"/>
            <a:ext cx="410508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9B717-A1F7-4FB6-B73D-BF19F2C6B1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HAWK status at S25/M2</a:t>
            </a:r>
            <a:br>
              <a:rPr sz="2000"/>
            </a:b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Product House Costs</a:t>
            </a:r>
            <a:endParaRPr b="1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469800" y="1092240"/>
            <a:ext cx="8356680" cy="5156280"/>
          </a:xfrm>
          <a:prstGeom prst="rect">
            <a:avLst/>
          </a:prstGeom>
          <a:noFill/>
          <a:ln w="2232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9800" y="1101600"/>
            <a:ext cx="8332920" cy="513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0D073-1498-47D7-83CC-27D6965AF5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8952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6371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754A6-A139-40C3-9CAA-F1FD3D8E38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A282B-112E-42D7-8F48-43FFC74F30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7-03T14:28:45Z</dcterms:modified>
  <cp:revision>144</cp:revision>
  <dc:subject/>
  <dc:title>PowerPoint 簡報</dc:title>
</cp:coreProperties>
</file>